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png" ContentType="image/png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22.jpeg" ContentType="image/jpeg"/>
  <Override PartName="/ppt/media/image6.png" ContentType="image/png"/>
  <Override PartName="/ppt/media/image5.jpeg" ContentType="image/jpeg"/>
  <Override PartName="/ppt/media/image23.png" ContentType="image/png"/>
  <Override PartName="/ppt/media/image2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9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8D481-15D3-4634-B275-9E764CD8F1F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9B6C-B367-402D-BF2F-0EC8604A6818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A76D3-ADB6-4B95-A3F7-3908D92F145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0B20-A6F4-4254-B4F1-B74F99800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5AB9-0926-46B8-A372-B79434EF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EF61-FBB3-4885-B875-7FB687556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6AA9-A841-4A37-BEAC-7FFE4F769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2FA3-006E-4A54-9F98-CD62E7587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8C159-B462-4162-8CC5-6F2A36CC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88B9-6641-4C57-A0C0-964793D4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3EB-B634-423D-AFB1-5964A0FD4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4A10-3D1C-4BE3-9D58-DADB4999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9BFE3-7707-46DF-8AAC-A523EF7A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F485-9FEE-4D45-8B0A-8B27D3BC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52DE-568E-46EC-A25D-48C301F97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1E16E-4F3B-4767-8648-03D9748E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2BB0E-2A28-4E59-9A53-47F57F02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5533-4123-469C-8631-7DF15EB8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1A02-CC4D-45D2-ACE4-CDDD6CE86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380D-BF32-44F1-9D66-B65002F6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81344-DA42-48B3-9941-C61D72C89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CEE9A-BD1C-441F-B418-512956A94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39A4A-EE81-49FC-BCC7-1723929F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E3845-08B2-4BE4-A605-AA300052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9D0E4-E7F7-401C-8C2B-A11B51B5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82C5-04A2-4358-9007-496877B4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88BEA7-71EB-4AA7-BFA0-920280F7E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2D453-3315-4A84-8E30-E58EE320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C11437-BB93-49D0-95CB-BFBAF861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42C20-9E64-417B-A1CA-19B4D9C77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FA4777-EA4E-44D8-82B7-86E30DBD5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DF963-0459-4674-B995-2B03A08DE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9B90A4-379D-4683-AC9F-5E1756E1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D1D20B-26D5-4342-8F83-8B3AE9D02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C367C-0337-4785-B71F-BBE825046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7899FD-F68D-4A25-9B3E-25E1EAAD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B3C3-70F6-4DB3-B73F-72D2480C8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BF78F-B020-4E24-A123-B98633A7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06CE76-D832-4D61-96A9-82E845ED6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B84CEA-E282-47F7-B15C-7BF371EB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A6B25-27CB-4281-B084-4C3C63A9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39B06-0716-4899-86FF-C47F3BF5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4B4B6-2CF3-4EFD-9E33-D02E13C5A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C7D6D-5713-433B-918D-FDD19271D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6308E-FC6B-458F-9E4C-8D7E8DB0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6BD2E7-C54D-4B92-8CCC-45D29C0E8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DD63E-470B-45B6-81FE-5A73C6272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E3FA-C18B-4176-9552-E4DFFDB67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3AE1EC-3A9B-48CC-9D1B-B7064C46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CB1713-8367-45EB-A9F3-51BF2F93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F9DEF-484A-4B21-8D18-54F9440E9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F20E8-FF5D-4807-8419-6E374A6B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1584D-582D-4D33-9415-CDC35E36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B38FD-C6AC-4D48-8DFF-A6DFD861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07786B-A570-4667-B990-88C06E69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553AC-F9B1-4F13-81E9-DD88C700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D999E9-41BC-4745-8EFD-376341C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59A09C-4804-4A42-8842-4F698A03B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1636-0C32-44C9-BD6B-3CCBB90E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66CC7-0B5E-471E-BF08-F51B06A9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3B200-D2C5-4773-920F-357C0FC62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FA2600-B31F-4D95-BB34-3D916CDB1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0006AF-E308-47A6-8BC4-C5F6E4CE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E5EAF-DEE1-4D06-8A8F-89A5AFCF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C0050-8A4B-4EE0-A6FF-34814090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3E9C6-B923-4F62-A386-803A4D7B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E9AEF-F9EE-4525-83D5-F5B38A9D7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1C08F7-E4AF-4746-B103-D32C7E80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0D0D08-CFE7-424D-BD2B-EF827DD1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DA7E-8426-44E7-AC58-EA73A8BD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10F25-B113-431D-8A20-B44E61B06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B99E1-9DAD-427C-AF34-84BE6508A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4502A-3049-484B-BB9D-FB78EC62D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2148-5CE5-4A98-8BB4-09542D29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976-9049-4453-8F93-3326680D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9437-3BA7-4996-8F13-D3CB784C0717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6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7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5A48-44DE-45FE-8C8F-845C318F3CEE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6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8 Forma libre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99BB-656A-4317-AE58-75314B007661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FA60-02C4-42F4-A8D0-0BF548832C9F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11 Forma libre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15 Forma libre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DEF5-26E1-4291-981E-67144745BB3F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0f6fc6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0f6fc6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009dd9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0bd0d9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10cf9b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a1b4b7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6A3E7-E9A1-4CB7-99E8-73BC2958ADEF}" type="slidenum">
              <a:rPr b="0" lang="es-MX" sz="1000" spc="-1" strike="noStrike">
                <a:solidFill>
                  <a:srgbClr val="a1b4b7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image" Target="../media/image21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3.wmf"/><Relationship Id="rId14" Type="http://schemas.openxmlformats.org/officeDocument/2006/relationships/image" Target="../media/image14.png"/><Relationship Id="rId1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4"/>
          <p:cNvSpPr/>
          <p:nvPr/>
        </p:nvSpPr>
        <p:spPr>
          <a:xfrm>
            <a:off x="1042920" y="476280"/>
            <a:ext cx="6913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59aaf2"/>
                </a:solidFill>
                <a:latin typeface="Arial"/>
              </a:rPr>
              <a:t>    </a:t>
            </a:r>
            <a:r>
              <a:rPr b="1" lang="es-MX" sz="3600" spc="-1" strike="noStrike">
                <a:solidFill>
                  <a:srgbClr val="59aaf2"/>
                </a:solidFill>
                <a:latin typeface="Broadway"/>
              </a:rPr>
              <a:t>METODODOLOGIA ESTUDIO DE CAS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     “</a:t>
            </a: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Como partir de lo general hacia lo particular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                   </a:t>
            </a: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Hasta llegar a una conclusión”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                                           </a:t>
            </a:r>
            <a:r>
              <a:rPr b="1" lang="es-MX" sz="2200" spc="-1" strike="noStrike">
                <a:solidFill>
                  <a:srgbClr val="55a839"/>
                </a:solidFill>
                <a:latin typeface="Arial"/>
              </a:rPr>
              <a:t>Método Harvar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 Box 3"/>
          <p:cNvSpPr/>
          <p:nvPr/>
        </p:nvSpPr>
        <p:spPr>
          <a:xfrm>
            <a:off x="324000" y="325440"/>
            <a:ext cx="8424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9aaf2"/>
                </a:solidFill>
                <a:latin typeface="Iskoola Pota"/>
                <a:ea typeface="Iskoola Pota"/>
              </a:rPr>
              <a:t>a).-  Marco estructural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lementos conceptuales para el Análisis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 un problema o situación o desvia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35"/>
          <p:cNvSpPr/>
          <p:nvPr/>
        </p:nvSpPr>
        <p:spPr>
          <a:xfrm>
            <a:off x="5364000" y="1413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Text Box 36"/>
          <p:cNvSpPr/>
          <p:nvPr/>
        </p:nvSpPr>
        <p:spPr>
          <a:xfrm>
            <a:off x="5651640" y="3716280"/>
            <a:ext cx="187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33 Diagrama" descr=""/>
          <p:cNvPicPr/>
          <p:nvPr/>
        </p:nvPicPr>
        <p:blipFill>
          <a:blip r:embed="rId1"/>
          <a:stretch/>
        </p:blipFill>
        <p:spPr>
          <a:xfrm>
            <a:off x="457200" y="1122480"/>
            <a:ext cx="8021520" cy="53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3651120" y="31284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 u="sng">
                <a:solidFill>
                  <a:srgbClr val="20c9f8"/>
                </a:solidFill>
                <a:uFillTx/>
                <a:latin typeface="Arial"/>
              </a:rPr>
              <a:t>Proce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324000" y="1017720"/>
          <a:ext cx="8785080" cy="536400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1.-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Analizar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el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material de estudio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2.- Lectura del caso y antecedentes: marcar o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subrayar datos importantes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3.- Sacar un 1er. Resumen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ubicar el problema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4.- Releer el caso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marcar hecho relevantes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5.- Preparar un 2o resumen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eliminar duplicidades datos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irrelevantes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6.- Dar forma a tu propuesta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análisis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aplicando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actitud interrogante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7.-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Documentar la propuesta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: datos, cifras indicadores de medición etc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8.-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Presentar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al equipo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la propuesta para análisis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y discusión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9.-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Preparar consenso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con tu equipo: tomar en cuenta diferentes perspectivas, criterios y experiencias-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10.-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Elaborar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 un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resumen del caso: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consenso del equipo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11.-Presentación ante un consejo o reunión  plenaria: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exposición para debate. 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57200" indent="-4572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12.-Sacar de cada </a:t>
                      </a:r>
                      <a:r>
                        <a:rPr b="0" lang="es-MX" sz="2000" spc="-1" strike="noStrike">
                          <a:solidFill>
                            <a:srgbClr val="5ef0f7"/>
                          </a:solidFill>
                          <a:latin typeface="Franklin Gothic Book"/>
                          <a:ea typeface="Arial"/>
                        </a:rPr>
                        <a:t>presentación tu propio resumen que será tu aprendizaje  </a:t>
                      </a:r>
                      <a:r>
                        <a:rPr b="0" lang="es-MX" sz="2000" spc="-1" strike="noStrike">
                          <a:solidFill>
                            <a:srgbClr val="ffffff"/>
                          </a:solidFill>
                          <a:latin typeface="Franklin Gothic Book"/>
                          <a:ea typeface="Arial"/>
                        </a:rPr>
                        <a:t>(nuevos conocimientos, actitud analítica y creativa)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AutoShape 2"/>
          <p:cNvSpPr/>
          <p:nvPr/>
        </p:nvSpPr>
        <p:spPr>
          <a:xfrm rot="5400000">
            <a:off x="2771280" y="-531720"/>
            <a:ext cx="3673440" cy="7705800"/>
          </a:xfrm>
          <a:prstGeom prst="triangle">
            <a:avLst>
              <a:gd name="adj" fmla="val 51954"/>
            </a:avLst>
          </a:prstGeom>
          <a:solidFill>
            <a:srgbClr val="0f6fc6"/>
          </a:solidFill>
          <a:ln w="9360">
            <a:solidFill>
              <a:srgbClr val="dbf5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59aaf2"/>
                </a:solidFill>
                <a:latin typeface="Iskoola Pota"/>
                <a:ea typeface="Iskoola Pota"/>
              </a:rPr>
              <a:t>                                 </a:t>
            </a:r>
            <a:r>
              <a:rPr b="1" lang="es-ES" sz="3200" spc="-1" strike="noStrike">
                <a:solidFill>
                  <a:srgbClr val="59aaf2"/>
                </a:solidFill>
                <a:latin typeface="Iskoola Pota"/>
                <a:ea typeface="Iskoola Pota"/>
              </a:rPr>
              <a:t>Ejemplo de formato tipo banderí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i="1" lang="es-ES" sz="2000" spc="-1" strike="noStrike">
                <a:solidFill>
                  <a:srgbClr val="ffffff"/>
                </a:solidFill>
                <a:latin typeface="Arial"/>
              </a:rPr>
              <a:t>parte de lo general                  a lo particular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826920" y="1268280"/>
            <a:ext cx="1008360" cy="64800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Datos 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Hech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5"/>
          <p:cNvSpPr/>
          <p:nvPr/>
        </p:nvSpPr>
        <p:spPr>
          <a:xfrm>
            <a:off x="2195640" y="1557360"/>
            <a:ext cx="1224000" cy="64764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Hech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important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3708360" y="1844640"/>
            <a:ext cx="1295280" cy="64764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Análisis..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5219640" y="2133720"/>
            <a:ext cx="1440000" cy="64764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Resumen; síntesi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Conclusione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8"/>
          <p:cNvSpPr/>
          <p:nvPr/>
        </p:nvSpPr>
        <p:spPr>
          <a:xfrm>
            <a:off x="6877080" y="2709720"/>
            <a:ext cx="1295280" cy="648000"/>
          </a:xfrm>
          <a:prstGeom prst="rect">
            <a:avLst/>
          </a:prstGeom>
          <a:solidFill>
            <a:srgbClr val="7030a0"/>
          </a:solidFill>
          <a:ln w="9360">
            <a:solidFill>
              <a:srgbClr val="c8e3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Plan, programa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responsables.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 Box 2"/>
          <p:cNvSpPr/>
          <p:nvPr/>
        </p:nvSpPr>
        <p:spPr>
          <a:xfrm>
            <a:off x="1459080" y="333360"/>
            <a:ext cx="65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9aaf2"/>
                </a:solidFill>
                <a:latin typeface="Iskoola Pota"/>
                <a:ea typeface="Iskoola Pota"/>
              </a:rPr>
              <a:t>FORMATO, DATOS  E INFORMACION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3"/>
          <p:cNvSpPr/>
          <p:nvPr/>
        </p:nvSpPr>
        <p:spPr>
          <a:xfrm>
            <a:off x="324000" y="1052640"/>
            <a:ext cx="8731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ndara"/>
              </a:rPr>
              <a:t>Metodología desarrollada  en la Universidad Harvard;  Boston Massachset, USA.  Adoptada en  México por el IPADE  y  U.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Candara"/>
              </a:rPr>
              <a:t>En los años 60as’, para el manejo efectivo de la comunicación y función Directiva; (Managment) y se ha venido perfeccionando a través del tiempo como documento de juntas y reuniones ejecutivas porque facilita  la toma de decisione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Object 4" descr=""/>
          <p:cNvPicPr/>
          <p:nvPr/>
        </p:nvPicPr>
        <p:blipFill>
          <a:blip r:embed="rId1"/>
          <a:stretch/>
        </p:blipFill>
        <p:spPr>
          <a:xfrm>
            <a:off x="179280" y="3343320"/>
            <a:ext cx="8785440" cy="2894040"/>
          </a:xfrm>
          <a:prstGeom prst="rect">
            <a:avLst/>
          </a:prstGeom>
          <a:ln w="1260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2 Imagen" descr=""/>
          <p:cNvPicPr/>
          <p:nvPr/>
        </p:nvPicPr>
        <p:blipFill>
          <a:blip r:embed="rId1"/>
          <a:srcRect l="0" t="0" r="0" b="13707"/>
          <a:stretch/>
        </p:blipFill>
        <p:spPr>
          <a:xfrm>
            <a:off x="611280" y="692280"/>
            <a:ext cx="779940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"/>
          <p:cNvPicPr/>
          <p:nvPr/>
        </p:nvPicPr>
        <p:blipFill>
          <a:blip r:embed="rId1"/>
          <a:stretch/>
        </p:blipFill>
        <p:spPr>
          <a:xfrm>
            <a:off x="428760" y="1265400"/>
            <a:ext cx="8515080" cy="5187960"/>
          </a:xfrm>
          <a:prstGeom prst="rect">
            <a:avLst/>
          </a:prstGeom>
          <a:ln w="0">
            <a:noFill/>
          </a:ln>
        </p:spPr>
      </p:pic>
      <p:sp>
        <p:nvSpPr>
          <p:cNvPr id="323" name="7 CuadroTexto"/>
          <p:cNvSpPr/>
          <p:nvPr/>
        </p:nvSpPr>
        <p:spPr>
          <a:xfrm>
            <a:off x="2411280" y="33336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fceff"/>
                </a:solidFill>
                <a:latin typeface="Franklin Gothic Book"/>
              </a:rPr>
              <a:t>Ejemplo de Metodología de Caso, PEM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8 CuadroTexto"/>
          <p:cNvSpPr/>
          <p:nvPr/>
        </p:nvSpPr>
        <p:spPr>
          <a:xfrm>
            <a:off x="7164360" y="6524640"/>
            <a:ext cx="16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e5f4e0"/>
                </a:solidFill>
                <a:latin typeface="Arial"/>
              </a:rPr>
              <a:t>Continúa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2" descr=""/>
          <p:cNvPicPr/>
          <p:nvPr/>
        </p:nvPicPr>
        <p:blipFill>
          <a:blip r:embed="rId1"/>
          <a:stretch/>
        </p:blipFill>
        <p:spPr>
          <a:xfrm>
            <a:off x="101520" y="1989000"/>
            <a:ext cx="8934480" cy="2551320"/>
          </a:xfrm>
          <a:prstGeom prst="rect">
            <a:avLst/>
          </a:prstGeom>
          <a:ln w="0">
            <a:noFill/>
          </a:ln>
        </p:spPr>
      </p:pic>
      <p:sp>
        <p:nvSpPr>
          <p:cNvPr id="326" name="2 CuadroTexto"/>
          <p:cNvSpPr/>
          <p:nvPr/>
        </p:nvSpPr>
        <p:spPr>
          <a:xfrm>
            <a:off x="2411280" y="438120"/>
            <a:ext cx="460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fceff"/>
                </a:solidFill>
                <a:latin typeface="Franklin Gothic Book"/>
              </a:rPr>
              <a:t>Ejemplo de Metodología de Caso, PEM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121"/>
          <p:cNvSpPr/>
          <p:nvPr/>
        </p:nvSpPr>
        <p:spPr>
          <a:xfrm>
            <a:off x="179280" y="536400"/>
            <a:ext cx="88934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59aaf2"/>
                </a:solidFill>
                <a:latin typeface="Iskoola Pota"/>
                <a:ea typeface="Iskoola Pota"/>
              </a:rPr>
              <a:t>Reglas para la exposición en sesión plenar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edir la palabra levantando la mano; ( respeto a quien tenga la palab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tivar la participación de todos.( siempre tenemos algo qu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prender de los demá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lentar al tímido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temer a Equivocar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No temer a que nos pregunte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Controlar al audaz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ciar la discusión ordenada y respetuosa;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er precisos concisos y objetivos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Juega  Roll. del Moderador .- No resuelve los casos, revira las opiniones y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troalimenta información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http://sillabusadm2biblio.bloges.org/img/exposicion.jpg"/>
          <p:cNvPicPr/>
          <p:nvPr/>
        </p:nvPicPr>
        <p:blipFill>
          <a:blip r:embed="rId12"/>
          <a:stretch/>
        </p:blipFill>
        <p:spPr>
          <a:xfrm>
            <a:off x="5435640" y="2421000"/>
            <a:ext cx="2205000" cy="16524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4" descr="http://t1.gstatic.com/images?q=tbn:0EEh0wIc6TQbuM:http://www.farmaciacarol.com/assets/images/preguntas.gif"/>
          <p:cNvPicPr/>
          <p:nvPr/>
        </p:nvPicPr>
        <p:blipFill>
          <a:blip r:embed="rId13"/>
          <a:stretch/>
        </p:blipFill>
        <p:spPr>
          <a:xfrm>
            <a:off x="7451640" y="3284640"/>
            <a:ext cx="14605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0" name=""/>
          <p:cNvGraphicFramePr/>
          <p:nvPr/>
        </p:nvGraphicFramePr>
        <p:xfrm>
          <a:off x="1042920" y="692280"/>
          <a:ext cx="7128000" cy="2385720"/>
        </p:xfrm>
        <a:graphic>
          <a:graphicData uri="http://schemas.openxmlformats.org/drawingml/2006/table">
            <a:tbl>
              <a:tblPr/>
              <a:tblGrid>
                <a:gridCol w="7128000"/>
              </a:tblGrid>
              <a:tr h="2531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008000"/>
                          </a:solidFill>
                          <a:latin typeface="Iskoola Pota"/>
                          <a:ea typeface="Iskoola Pota"/>
                        </a:rPr>
                        <a:t>"Todo esfuerzo tiene su recompensa“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99ff66"/>
                          </a:solidFill>
                          <a:latin typeface="Iskoola Pota"/>
                          <a:ea typeface="Iskoola Pota"/>
                        </a:rPr>
                        <a:t>   </a:t>
                      </a:r>
                      <a:r>
                        <a:rPr b="1" lang="es-MX" sz="3200" spc="-1" strike="noStrike">
                          <a:solidFill>
                            <a:srgbClr val="99ff66"/>
                          </a:solidFill>
                          <a:latin typeface="Iskoola Pota"/>
                          <a:ea typeface="Iskoola Pota"/>
                        </a:rPr>
                        <a:t>(crecer, aprender más y comparti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3200" spc="-1" strike="noStrike">
                          <a:solidFill>
                            <a:srgbClr val="99ff66"/>
                          </a:solidFill>
                          <a:latin typeface="Iskoola Pota"/>
                          <a:ea typeface="Iskoola Pota"/>
                        </a:rPr>
                        <a:t>                   </a:t>
                      </a:r>
                      <a:r>
                        <a:rPr b="1" lang="es-MX" sz="3200" spc="-1" strike="noStrike">
                          <a:solidFill>
                            <a:srgbClr val="99ff66"/>
                          </a:solidFill>
                          <a:latin typeface="Iskoola Pota"/>
                          <a:ea typeface="Iskoola Pota"/>
                        </a:rPr>
                        <a:t>con los demás).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331" name="Picture 4" descr="http://fulvida.com/wp-content/uploads/recompensa2.jpg"/>
          <p:cNvPicPr/>
          <p:nvPr/>
        </p:nvPicPr>
        <p:blipFill>
          <a:blip r:embed="rId1"/>
          <a:stretch/>
        </p:blipFill>
        <p:spPr>
          <a:xfrm>
            <a:off x="2889360" y="3279600"/>
            <a:ext cx="2908080" cy="546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4"/>
          <p:cNvSpPr/>
          <p:nvPr/>
        </p:nvSpPr>
        <p:spPr>
          <a:xfrm>
            <a:off x="3216960" y="1197000"/>
            <a:ext cx="235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20c9f8"/>
                </a:solidFill>
                <a:latin typeface="Arial"/>
              </a:rPr>
              <a:t>Bibliografía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5"/>
          <p:cNvSpPr/>
          <p:nvPr/>
        </p:nvSpPr>
        <p:spPr>
          <a:xfrm>
            <a:off x="395280" y="2060640"/>
            <a:ext cx="8137440" cy="338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0c9f8"/>
                </a:solidFill>
                <a:latin typeface="Iskoola Pota"/>
                <a:ea typeface="Iskoola Pota"/>
              </a:rPr>
              <a:t>Metodología Estudio de caso.-U. Harvard; / IPADE / Universidad Panamericana de México, A.C.; Carlos Llano Cifuentes; [Mc-Graw Hill-IPADE]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0c9f8"/>
                </a:solidFill>
                <a:latin typeface="Iskoola Pota"/>
                <a:ea typeface="Iskoola Pota"/>
              </a:rPr>
              <a:t>Apuntes Proceso, Formatos y ejemplos de Estudio de caso; Autor Lic. Jaime G. Sánchez 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20c9f8"/>
                </a:solidFill>
                <a:latin typeface="Iskoola Pota"/>
                <a:ea typeface="Iskoola Pota"/>
              </a:rPr>
              <a:t>Revistas Expansión sobre el tema metodología Estudio de caso [2002/2005]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4" descr=""/>
          <p:cNvPicPr/>
          <p:nvPr/>
        </p:nvPicPr>
        <p:blipFill>
          <a:blip r:embed="rId1"/>
          <a:stretch/>
        </p:blipFill>
        <p:spPr>
          <a:xfrm>
            <a:off x="0" y="115920"/>
            <a:ext cx="8682120" cy="67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64"/>
          <p:cNvSpPr/>
          <p:nvPr/>
        </p:nvSpPr>
        <p:spPr>
          <a:xfrm>
            <a:off x="1766520" y="299736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fceff"/>
                </a:solidFill>
                <a:latin typeface="Arial"/>
              </a:rPr>
              <a:t>Objetiva, concreta y proposit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70"/>
          <p:cNvSpPr/>
          <p:nvPr/>
        </p:nvSpPr>
        <p:spPr>
          <a:xfrm>
            <a:off x="1190880" y="393372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55a839"/>
                </a:solidFill>
                <a:latin typeface="Arial"/>
              </a:rPr>
              <a:t>Anteced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95"/>
          <p:cNvSpPr/>
          <p:nvPr/>
        </p:nvSpPr>
        <p:spPr>
          <a:xfrm>
            <a:off x="539640" y="4683240"/>
            <a:ext cx="8136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écnica y herramienta desarrollada en la Universidad de Harvard USA , para  estudiar y sintetizar casos, y situaciones reales.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mportada a  México por su filial  IPADE que se encargo de diseminarla y compartirla  en Universidades  y  empresas  por su exitoso método .</a:t>
            </a:r>
            <a:r>
              <a:rPr b="0" lang="es-E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5 CuadroTexto"/>
          <p:cNvSpPr/>
          <p:nvPr/>
        </p:nvSpPr>
        <p:spPr>
          <a:xfrm>
            <a:off x="611280" y="1846440"/>
            <a:ext cx="576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el proceso para dar a la luz  hechos, análisis,  evaluación y síntesis de casos estudio y situaciones reales, en forma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6 CuadroTexto" descr=""/>
          <p:cNvPicPr/>
          <p:nvPr/>
        </p:nvPicPr>
        <p:blipFill>
          <a:blip r:embed="rId1"/>
          <a:stretch/>
        </p:blipFill>
        <p:spPr>
          <a:xfrm>
            <a:off x="536400" y="311040"/>
            <a:ext cx="7139160" cy="173052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" descr="http://es.dreamstime.com/criba-estudio-de-caso-junto-thumb244134.jpg"/>
          <p:cNvPicPr/>
          <p:nvPr/>
        </p:nvPicPr>
        <p:blipFill>
          <a:blip r:embed="rId2"/>
          <a:stretch/>
        </p:blipFill>
        <p:spPr>
          <a:xfrm>
            <a:off x="6705720" y="1981080"/>
            <a:ext cx="199368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1"/>
          <p:cNvSpPr/>
          <p:nvPr/>
        </p:nvSpPr>
        <p:spPr>
          <a:xfrm>
            <a:off x="324000" y="765000"/>
            <a:ext cx="85690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f3ca"/>
                </a:solidFill>
                <a:latin typeface="Arial"/>
              </a:rPr>
              <a:t>Identificar hechos relevante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; comentarios y datos importantes; Análisis de información  y hechos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5ff3ca"/>
                </a:solidFill>
                <a:latin typeface="Arial"/>
              </a:rPr>
              <a:t>Resumen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síntesis, </a:t>
            </a:r>
            <a:r>
              <a:rPr b="0" lang="es-ES" sz="2000" spc="-1" strike="noStrike">
                <a:solidFill>
                  <a:srgbClr val="5ff3ca"/>
                </a:solidFill>
                <a:latin typeface="Arial"/>
              </a:rPr>
              <a:t>propuesta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decisiones y recomendaciones: designación de responsables y fechas de ejecución.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36"/>
          <p:cNvSpPr/>
          <p:nvPr/>
        </p:nvSpPr>
        <p:spPr>
          <a:xfrm>
            <a:off x="324000" y="292428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ff3ca"/>
                </a:solidFill>
                <a:latin typeface="Arial"/>
              </a:rPr>
              <a:t>Separar la opinión personal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&gt; de los problemas y su jerarquía -&gt; ejecutar fase de análisis y </a:t>
            </a:r>
            <a:r>
              <a:rPr b="1" lang="es-ES" sz="2000" spc="-1" strike="noStrike">
                <a:solidFill>
                  <a:srgbClr val="5ff3ca"/>
                </a:solidFill>
                <a:latin typeface="Arial"/>
              </a:rPr>
              <a:t>concebir  soluciones posi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539640" y="4011480"/>
            <a:ext cx="7848720" cy="27151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a)    Aprender </a:t>
            </a:r>
            <a:r>
              <a:rPr b="0" lang="es-ES" sz="2000" spc="-1" strike="noStrike">
                <a:solidFill>
                  <a:srgbClr val="59aaf2"/>
                </a:solidFill>
                <a:latin typeface="Arial"/>
              </a:rPr>
              <a:t>=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Escribir es descubrir.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s </a:t>
            </a:r>
            <a:r>
              <a:rPr b="0" lang="es-ES" sz="2000" spc="-1" strike="noStrike">
                <a:solidFill>
                  <a:srgbClr val="59aaf2"/>
                </a:solidFill>
                <a:latin typeface="Arial"/>
              </a:rPr>
              <a:t>saber transmitir los conocimiento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 ideas a los demá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Debemos </a:t>
            </a:r>
            <a:r>
              <a:rPr b="0" lang="es-ES" sz="2000" spc="-1" strike="noStrike">
                <a:solidFill>
                  <a:srgbClr val="59aaf2"/>
                </a:solidFill>
                <a:latin typeface="Arial"/>
              </a:rPr>
              <a:t>de localizar donde están los problemas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=  cuando las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mpresas mugen es porque están moribunda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59aaf2"/>
                </a:solidFill>
                <a:latin typeface="Arial"/>
              </a:rPr>
              <a:t>Identificar donde les duele  y  a tiempo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, ( diagnostico del         medico como experto en anatomía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ontinu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Line 38"/>
          <p:cNvSpPr/>
          <p:nvPr/>
        </p:nvSpPr>
        <p:spPr>
          <a:xfrm>
            <a:off x="7883640" y="6237360"/>
            <a:ext cx="43344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5 Rectángulo" descr=""/>
          <p:cNvPicPr/>
          <p:nvPr/>
        </p:nvPicPr>
        <p:blipFill>
          <a:blip r:embed="rId1"/>
          <a:stretch/>
        </p:blipFill>
        <p:spPr>
          <a:xfrm>
            <a:off x="2664000" y="237960"/>
            <a:ext cx="3084480" cy="11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199"/>
          <p:cNvSpPr/>
          <p:nvPr/>
        </p:nvSpPr>
        <p:spPr>
          <a:xfrm>
            <a:off x="324000" y="404640"/>
            <a:ext cx="467964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59aaf2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59aaf2"/>
                </a:solidFill>
                <a:latin typeface="Arial"/>
              </a:rPr>
              <a:t>Premisa Japonesa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-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es mas fácil copiar, reproducir, mejorar  y optimizar que inventar :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Ejemplo.- que podría yo hacer si fuera responsable de esta empresa    ante un problema determinado ?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Fomenta el dialogo y la participación de los involucrado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bajo diferentes enfoques y perspectiva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f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ncluye, determina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y  define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arte de lo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subjetivo a lo objetiv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;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h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s 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un método san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de respeto mutuo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para la toma de decisione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http://3.bp.blogspot.com/_SSI3WYmJTUM/SNluSkU9FgI/AAAAAAAAAa0/WCWvQiPCNV0/s400/La+novia+robot.+El+Pa%C3%ADs+17.06.08.jpg"/>
          <p:cNvPicPr/>
          <p:nvPr/>
        </p:nvPicPr>
        <p:blipFill>
          <a:blip r:embed="rId1"/>
          <a:stretch/>
        </p:blipFill>
        <p:spPr>
          <a:xfrm>
            <a:off x="6875640" y="620640"/>
            <a:ext cx="1484280" cy="2019240"/>
          </a:xfrm>
          <a:prstGeom prst="rect">
            <a:avLst/>
          </a:prstGeom>
          <a:ln w="0">
            <a:noFill/>
          </a:ln>
        </p:spPr>
      </p:pic>
      <p:grpSp>
        <p:nvGrpSpPr>
          <p:cNvPr id="276" name="3 Extracto"/>
          <p:cNvGrpSpPr/>
          <p:nvPr/>
        </p:nvGrpSpPr>
        <p:grpSpPr>
          <a:xfrm>
            <a:off x="5425920" y="2554200"/>
            <a:ext cx="2614680" cy="1731960"/>
            <a:chOff x="5425920" y="2554200"/>
            <a:chExt cx="2614680" cy="1731960"/>
          </a:xfrm>
        </p:grpSpPr>
        <p:pic>
          <p:nvPicPr>
            <p:cNvPr id="277" name="3 Extracto" descr=""/>
            <p:cNvPicPr/>
            <p:nvPr/>
          </p:nvPicPr>
          <p:blipFill>
            <a:blip r:embed="rId2"/>
            <a:stretch/>
          </p:blipFill>
          <p:spPr>
            <a:xfrm>
              <a:off x="5425920" y="2554200"/>
              <a:ext cx="261468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 rot="5400000">
              <a:off x="5728320" y="2805840"/>
              <a:ext cx="779400" cy="12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9" name="Picture 4" descr="http://junior.discapnet.es/img/FichasDidacticas/Orientacion/grafico09.jpg"/>
          <p:cNvPicPr/>
          <p:nvPr/>
        </p:nvPicPr>
        <p:blipFill>
          <a:blip r:embed="rId3"/>
          <a:srcRect l="14386" t="0" r="34590" b="0"/>
          <a:stretch/>
        </p:blipFill>
        <p:spPr>
          <a:xfrm>
            <a:off x="7020000" y="4057560"/>
            <a:ext cx="1944720" cy="2800440"/>
          </a:xfrm>
          <a:prstGeom prst="rect">
            <a:avLst/>
          </a:prstGeom>
          <a:ln w="0">
            <a:noFill/>
          </a:ln>
        </p:spPr>
      </p:pic>
      <p:sp>
        <p:nvSpPr>
          <p:cNvPr id="280" name="6 Rectángulo"/>
          <p:cNvSpPr/>
          <p:nvPr/>
        </p:nvSpPr>
        <p:spPr>
          <a:xfrm>
            <a:off x="6659640" y="4005360"/>
            <a:ext cx="936720" cy="1224000"/>
          </a:xfrm>
          <a:prstGeom prst="rect">
            <a:avLst/>
          </a:prstGeom>
          <a:solidFill>
            <a:srgbClr val="00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1 CuadroTexto"/>
          <p:cNvSpPr/>
          <p:nvPr/>
        </p:nvSpPr>
        <p:spPr>
          <a:xfrm>
            <a:off x="611280" y="692280"/>
            <a:ext cx="468144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i)   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Increment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uestro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sentido de comprensión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(político, social y económico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j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Desarroll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nuestra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capacidad  trabajo en equipo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y participa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k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Adquirir una perspectiva de síntesi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 los negocios/ y todo tipo de situaciones o problema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Incrementa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nuestro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conocimiento social, de negociación y relaciones human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m)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Propon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ante una sesión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lenaria o grupo nuestras propuestas y  </a:t>
            </a:r>
            <a:r>
              <a:rPr b="0" lang="es-ES" sz="1800" spc="-1" strike="noStrike">
                <a:solidFill>
                  <a:srgbClr val="59aaf2"/>
                </a:solidFill>
                <a:latin typeface="Arial"/>
              </a:rPr>
              <a:t>recomendaciones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2" descr="http://t0.gstatic.com/images?q=tbn:DrgMdhJwDbMcDM:http://www.beneficiomutuo.net/wp-content/uploads/2009/06/colaborar-participar-blogs1.jpg"/>
          <p:cNvPicPr/>
          <p:nvPr/>
        </p:nvPicPr>
        <p:blipFill>
          <a:blip r:embed="rId1"/>
          <a:stretch/>
        </p:blipFill>
        <p:spPr>
          <a:xfrm>
            <a:off x="6516720" y="3789360"/>
            <a:ext cx="2322360" cy="151128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http://www.elpais.com/recorte/20070402elpepusoc_3/LCO340/Ies/expertos_ONU_cambio_climatico_debaten_medidas_proponer_politicos.jpg"/>
          <p:cNvPicPr/>
          <p:nvPr/>
        </p:nvPicPr>
        <p:blipFill>
          <a:blip r:embed="rId2"/>
          <a:srcRect l="30769" t="0" r="0" b="0"/>
          <a:stretch/>
        </p:blipFill>
        <p:spPr>
          <a:xfrm>
            <a:off x="5435640" y="620640"/>
            <a:ext cx="2305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4"/>
          <p:cNvSpPr/>
          <p:nvPr/>
        </p:nvSpPr>
        <p:spPr>
          <a:xfrm>
            <a:off x="684360" y="189000"/>
            <a:ext cx="72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59aaf2"/>
                </a:solidFill>
                <a:latin typeface="Arial"/>
              </a:rPr>
              <a:t>Aplicar Actitud interroga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1189440" y="666720"/>
            <a:ext cx="559692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1" lang="es-MX" sz="2400" spc="-1" strike="noStrike" u="sng">
                <a:solidFill>
                  <a:srgbClr val="0c9b74"/>
                </a:solidFill>
                <a:uFillTx/>
                <a:latin typeface="Iskoola Pota"/>
                <a:ea typeface="Iskoola Pota"/>
              </a:rPr>
              <a:t>Proceso interrog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Que….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Iskoola P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Porque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Iskoola Pot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Como….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Cuando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Quien……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Cuanto…..!</a:t>
            </a:r>
            <a:r>
              <a:rPr b="0" lang="es-MX" sz="1800" spc="-1" strike="noStrike">
                <a:solidFill>
                  <a:srgbClr val="ffffff"/>
                </a:solidFill>
                <a:latin typeface="Iskoola Pota"/>
                <a:ea typeface="Iskoola Pota"/>
              </a:rPr>
              <a:t> $ ; #; % (unidad de medició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Object 6" descr=""/>
          <p:cNvPicPr/>
          <p:nvPr/>
        </p:nvPicPr>
        <p:blipFill>
          <a:blip r:embed="rId10"/>
          <a:stretch/>
        </p:blipFill>
        <p:spPr>
          <a:xfrm flipH="1">
            <a:off x="3779640" y="1125360"/>
            <a:ext cx="1879560" cy="215928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7"/>
          <p:cNvSpPr/>
          <p:nvPr/>
        </p:nvSpPr>
        <p:spPr>
          <a:xfrm>
            <a:off x="324000" y="4826160"/>
            <a:ext cx="864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0dfa1"/>
                </a:solidFill>
                <a:latin typeface="Iskoola Pota"/>
                <a:ea typeface="Iskoola Pota"/>
              </a:rPr>
              <a:t>Todo este proceso nos leva hacia un análisis exhaustivo de la situación, problema, o contingencia y nos permite crear escenarios y/o alternativas de solución</a:t>
            </a:r>
            <a:r>
              <a:rPr b="0" lang="es-MX" sz="1800" spc="-1" strike="noStrike">
                <a:solidFill>
                  <a:srgbClr val="b0dfa1"/>
                </a:solidFill>
                <a:latin typeface="Iskoola Pota"/>
                <a:ea typeface="Iskoola Pot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0dfa1"/>
                </a:solidFill>
                <a:latin typeface="Iskoola Pota"/>
                <a:ea typeface="Iskoola Pota"/>
              </a:rPr>
              <a:t>Nos facilita la toma de decision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b0dfa1"/>
                </a:solidFill>
                <a:latin typeface="Iskoola Pota"/>
                <a:ea typeface="Iskoola Pota"/>
              </a:rPr>
              <a:t>Recuerden la información es poder y el poder permite tomar buenas decis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8" name="Object 8" descr=""/>
          <p:cNvPicPr/>
          <p:nvPr/>
        </p:nvPicPr>
        <p:blipFill>
          <a:blip r:embed="rId13"/>
          <a:stretch/>
        </p:blipFill>
        <p:spPr>
          <a:xfrm>
            <a:off x="3348000" y="1781280"/>
            <a:ext cx="2803680" cy="19350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8" descr="http://elalmaalaire.blogia.com/upload/20090414162016-gif-interrogante.gif"/>
          <p:cNvPicPr/>
          <p:nvPr/>
        </p:nvPicPr>
        <p:blipFill>
          <a:blip r:embed="rId14"/>
          <a:stretch/>
        </p:blipFill>
        <p:spPr>
          <a:xfrm>
            <a:off x="6156360" y="119700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447840" y="784080"/>
            <a:ext cx="801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Proble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Que es Problema……………………………………………………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Descripción  analítica……………………………………………….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ext Box 2"/>
          <p:cNvSpPr/>
          <p:nvPr/>
        </p:nvSpPr>
        <p:spPr>
          <a:xfrm>
            <a:off x="82692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324000" y="692280"/>
            <a:ext cx="799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55a839"/>
                </a:solidFill>
                <a:latin typeface="Arial"/>
              </a:rPr>
              <a:t>Definición y alca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55a83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55a839"/>
                </a:solidFill>
                <a:latin typeface="Arial"/>
              </a:rPr>
              <a:t>Definición del problema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situación diferente a la rutina o aparición síntomas. Se recomienda documentar con información relevante: datos, hechos, cifras, muestras o ejemplos que debe ser listada y clasificada 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179280" y="6516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59aaf2"/>
                </a:solidFill>
                <a:latin typeface="Iskoola Pota"/>
                <a:ea typeface="Iskoola Pota"/>
              </a:rPr>
              <a:t>Instrumentos en la administración de proyectos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5"/>
          <p:cNvSpPr/>
          <p:nvPr/>
        </p:nvSpPr>
        <p:spPr>
          <a:xfrm>
            <a:off x="3564000" y="5300640"/>
            <a:ext cx="1727280" cy="1297080"/>
          </a:xfrm>
          <a:prstGeom prst="flowChartAlternateProcess">
            <a:avLst/>
          </a:prstGeom>
          <a:solidFill>
            <a:srgbClr val="10cf9b"/>
          </a:solidFill>
          <a:ln w="19080">
            <a:solidFill>
              <a:srgbClr val="0998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fini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del probl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Rectangle 6"/>
          <p:cNvSpPr/>
          <p:nvPr/>
        </p:nvSpPr>
        <p:spPr>
          <a:xfrm>
            <a:off x="5940360" y="5445000"/>
            <a:ext cx="1728720" cy="79236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stos, $;%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ifras; #;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5580000" y="4005360"/>
            <a:ext cx="1728720" cy="72072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Ejemplo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3780000" y="2708280"/>
            <a:ext cx="1368360" cy="100800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Hech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nform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releva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9"/>
          <p:cNvSpPr/>
          <p:nvPr/>
        </p:nvSpPr>
        <p:spPr>
          <a:xfrm>
            <a:off x="1258920" y="5373720"/>
            <a:ext cx="1512720" cy="71928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1547640" y="4078440"/>
            <a:ext cx="1800360" cy="790560"/>
          </a:xfrm>
          <a:prstGeom prst="flowChartAlternateProcess">
            <a:avLst/>
          </a:prstGeom>
          <a:solidFill>
            <a:srgbClr val="009d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síntom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1"/>
          <p:cNvSpPr/>
          <p:nvPr/>
        </p:nvSpPr>
        <p:spPr>
          <a:xfrm>
            <a:off x="1332000" y="536724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muestr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Line 12"/>
          <p:cNvSpPr/>
          <p:nvPr/>
        </p:nvSpPr>
        <p:spPr>
          <a:xfrm>
            <a:off x="4427640" y="3716280"/>
            <a:ext cx="0" cy="1584360"/>
          </a:xfrm>
          <a:prstGeom prst="line">
            <a:avLst/>
          </a:prstGeom>
          <a:ln w="9360">
            <a:solidFill>
              <a:srgbClr val="38f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Line 13"/>
          <p:cNvSpPr/>
          <p:nvPr/>
        </p:nvSpPr>
        <p:spPr>
          <a:xfrm>
            <a:off x="3132000" y="4365720"/>
            <a:ext cx="1295640" cy="360360"/>
          </a:xfrm>
          <a:custGeom>
            <a:avLst/>
            <a:gdLst/>
            <a:ahLst/>
            <a:rect l="l" t="t" r="r" b="b"/>
            <a:pathLst>
              <a:path w="1295400" h="360363">
                <a:moveTo>
                  <a:pt x="0" y="0"/>
                </a:moveTo>
                <a:lnTo>
                  <a:pt x="1295400" y="360363"/>
                </a:lnTo>
              </a:path>
            </a:pathLst>
          </a:custGeom>
          <a:noFill/>
          <a:ln w="9360">
            <a:solidFill>
              <a:srgbClr val="38f5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Line 14"/>
          <p:cNvSpPr/>
          <p:nvPr/>
        </p:nvSpPr>
        <p:spPr>
          <a:xfrm flipH="1">
            <a:off x="4426920" y="4437000"/>
            <a:ext cx="1152360" cy="287280"/>
          </a:xfrm>
          <a:custGeom>
            <a:avLst/>
            <a:gdLst/>
            <a:ahLst/>
            <a:rect l="l" t="t" r="r" b="b"/>
            <a:pathLst>
              <a:path w="1223962" h="287338">
                <a:moveTo>
                  <a:pt x="0" y="0"/>
                </a:moveTo>
                <a:lnTo>
                  <a:pt x="1223962" y="287338"/>
                </a:lnTo>
              </a:path>
            </a:pathLst>
          </a:custGeom>
          <a:noFill/>
          <a:ln w="9360">
            <a:solidFill>
              <a:srgbClr val="38f5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15"/>
          <p:cNvSpPr/>
          <p:nvPr/>
        </p:nvSpPr>
        <p:spPr>
          <a:xfrm>
            <a:off x="2843280" y="5661000"/>
            <a:ext cx="718920" cy="216000"/>
          </a:xfrm>
          <a:prstGeom prst="line">
            <a:avLst/>
          </a:prstGeom>
          <a:ln w="9360">
            <a:solidFill>
              <a:srgbClr val="38f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16"/>
          <p:cNvSpPr/>
          <p:nvPr/>
        </p:nvSpPr>
        <p:spPr>
          <a:xfrm flipH="1">
            <a:off x="5292360" y="5732640"/>
            <a:ext cx="647640" cy="215640"/>
          </a:xfrm>
          <a:prstGeom prst="line">
            <a:avLst/>
          </a:prstGeom>
          <a:ln w="9360">
            <a:solidFill>
              <a:srgbClr val="38f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4:34:38Z</dcterms:created>
  <dc:creator>Jaime G.Sanchez C.</dc:creator>
  <dc:description/>
  <dc:language>en-US</dc:language>
  <cp:lastModifiedBy> Jaime G.Sanchez C.</cp:lastModifiedBy>
  <dcterms:modified xsi:type="dcterms:W3CDTF">2010-06-18T03:33:13Z</dcterms:modified>
  <cp:revision>37</cp:revision>
  <dc:subject/>
  <dc:title>Diapositiva 1</dc:title>
</cp:coreProperties>
</file>